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5"/>
          </p:nvPr>
        </p:nvSpPr>
        <p:spPr>
          <a:xfrm>
            <a:off x="365760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388880" y="914400"/>
            <a:ext cx="4545000" cy="34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26"/>
          </p:nvPr>
        </p:nvSpPr>
        <p:spPr>
          <a:xfrm>
            <a:off x="488520" y="8735760"/>
            <a:ext cx="34736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27"/>
          </p:nvPr>
        </p:nvSpPr>
        <p:spPr>
          <a:xfrm>
            <a:off x="4114800" y="8735760"/>
            <a:ext cx="271152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A69654CE-DB31-41A6-8078-E95AFD59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C6D153E8-73DC-47A8-B6F7-822E73239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will outline the steps a lead dust sampling technician must take from start to finish when conducting an examination. This chapter includes five activities to help practice implementing the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chapter, students will be able to demonstrate that they c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ppropriate sampling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lead dust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A882E954-3F3E-4D36-85A1-C604D94CD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7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74880" y="4562280"/>
            <a:ext cx="5365440" cy="298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ctivity 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Now that the sampling locations have been determined, you will take samples on a variety of surfaces – windowsills, troughs, and floo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ooter Placeholder 4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F357F0B2-4641-4168-AA82-0F60786AB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384200" y="914400"/>
            <a:ext cx="4543560" cy="34084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90360" y="4572000"/>
            <a:ext cx="536580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 and Report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alyzing the data, follow the guidelines provided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EPA/HUD lead dust clearance standards when evaluating sample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2CAB9B83-AFA3-4B63-A883-9729BE11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7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AFDA3D69-0B31-40B9-A89C-2F4BCFB20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50C46F60-6484-42F7-9F6F-AB08F5FEB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CB9457A7-55DA-4114-986B-FDA50AF91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98B216DF-9C51-4027-89F6-119C1F63F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09B8293D-4A30-4662-8660-26C37BCF3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273AB5C6-D54F-4B44-8EA6-25A6D189F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FC3FB7E2-2BCF-473F-BA0E-D31407E95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FA2BDECB-1690-4856-9883-32AE7D8EB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EC43F7DA-8BC8-44FE-AA55-D030F4A73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89E0F764-FC27-49DD-885C-67C3BB3E5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E4286AAC-226B-411C-8991-43DDAF22F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2E25F3CC-C05C-474D-801C-A24556D42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apter 6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tting the Skills Togeth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the skills taught in the clas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appropriate sampling lo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lead dust sample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Resul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jectives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 1: Where To Take Sample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16002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Content Placeholder 2"/>
          <p:cNvSpPr/>
          <p:nvPr/>
        </p:nvSpPr>
        <p:spPr>
          <a:xfrm>
            <a:off x="1295280" y="1905120"/>
            <a:ext cx="708660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now going to practice sampling area strate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instructor will provide you with a hypothetical renovation scenario and di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cenario and mark the location(s) of where you think dust wipe samples should be tak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member…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trategic about laying out sampling area to capture areas were the highest dust generating tasks occurred during the job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d Gu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Chapter 3 to determine the appropriate places to take your samples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 2: Dust Wipe Sampling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295280" y="1905120"/>
            <a:ext cx="731520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now going to practice taking dust wipe samples agai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must demonstrate proficiency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your instructor’s directions for taking sampl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 3: Interpreting the Result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instructor will provide you with laboratory results to interpret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PA lead dust clearance standards for guidanc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s: &lt; 10 µg/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window sills: &lt; 100 µg/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troughs: &lt; 400 µg/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Brisse, Claire</cp:lastModifiedBy>
  <cp:lastPrinted>2000-06-30T16:23:00Z</cp:lastPrinted>
  <dcterms:modified xsi:type="dcterms:W3CDTF">2021-02-24T13:52:15Z</dcterms:modified>
  <cp:revision>254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reator">
    <vt:lpwstr/>
  </property>
  <property fmtid="{D5CDD505-2E9C-101B-9397-08002B2CF9AE}" pid="4" name="Document Creation Date">
    <vt:lpwstr>2021-02-24T08:51:23Z</vt:lpwstr>
  </property>
  <property fmtid="{D5CDD505-2E9C-101B-9397-08002B2CF9AE}" pid="5" name="Document Type">
    <vt:lpwstr/>
  </property>
  <property fmtid="{D5CDD505-2E9C-101B-9397-08002B2CF9AE}" pid="6" name="EPA Contributor">
    <vt:lpwstr/>
  </property>
  <property fmtid="{D5CDD505-2E9C-101B-9397-08002B2CF9AE}" pid="7" name="EPA Office">
    <vt:lpwstr/>
  </property>
  <property fmtid="{D5CDD505-2E9C-101B-9397-08002B2CF9AE}" pid="8" name="EPA Related Documents">
    <vt:lpwstr/>
  </property>
  <property fmtid="{D5CDD505-2E9C-101B-9397-08002B2CF9AE}" pid="9" name="EPA Subject">
    <vt:lpwstr/>
  </property>
  <property fmtid="{D5CDD505-2E9C-101B-9397-08002B2CF9AE}" pid="10" name="External Contributor">
    <vt:lpwstr/>
  </property>
  <property fmtid="{D5CDD505-2E9C-101B-9397-08002B2CF9AE}" pid="11" name="Identifier">
    <vt:lpwstr/>
  </property>
  <property fmtid="{D5CDD505-2E9C-101B-9397-08002B2CF9AE}" pid="12" name="Language">
    <vt:lpwstr>English</vt:lpwstr>
  </property>
  <property fmtid="{D5CDD505-2E9C-101B-9397-08002B2CF9AE}" pid="13" name="Record">
    <vt:lpwstr>Shared</vt:lpwstr>
  </property>
  <property fmtid="{D5CDD505-2E9C-101B-9397-08002B2CF9AE}" pid="14" name="Rights">
    <vt:lpwstr/>
  </property>
  <property fmtid="{D5CDD505-2E9C-101B-9397-08002B2CF9AE}" pid="15" name="TaxCatchAll">
    <vt:lpwstr/>
  </property>
  <property fmtid="{D5CDD505-2E9C-101B-9397-08002B2CF9AE}" pid="16" name="TaxKeyword">
    <vt:lpwstr/>
  </property>
  <property fmtid="{D5CDD505-2E9C-101B-9397-08002B2CF9AE}" pid="17" name="TaxKeywordTaxHTField">
    <vt:lpwstr/>
  </property>
  <property fmtid="{D5CDD505-2E9C-101B-9397-08002B2CF9AE}" pid="18" name="_Coverage">
    <vt:lpwstr/>
  </property>
  <property fmtid="{D5CDD505-2E9C-101B-9397-08002B2CF9AE}" pid="19" name="_Source">
    <vt:lpwstr/>
  </property>
  <property fmtid="{D5CDD505-2E9C-101B-9397-08002B2CF9AE}" pid="20" name="_ip_UnifiedCompliancePolicyProperties">
    <vt:lpwstr/>
  </property>
  <property fmtid="{D5CDD505-2E9C-101B-9397-08002B2CF9AE}" pid="21" name="_ip_UnifiedCompliancePolicyUIAction">
    <vt:lpwstr/>
  </property>
  <property fmtid="{D5CDD505-2E9C-101B-9397-08002B2CF9AE}" pid="22" name="e3f09c3df709400db2417a7161762d62">
    <vt:lpwstr/>
  </property>
  <property fmtid="{D5CDD505-2E9C-101B-9397-08002B2CF9AE}" pid="23" name="j747ac98061d40f0aa7bd47e1db5675d">
    <vt:lpwstr/>
  </property>
</Properties>
</file>